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9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002-1349-4C3E-8F5C-82238402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522-04EF-4CB5-9CB1-08525AB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082-4BA2-4CB7-B3EE-C9F1058B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C23-A3FF-46A0-9732-494EC6EF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59E44-B47E-4F9F-A9A6-76546FB0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FDD94-09CB-4605-B1CC-1E366820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98776-8BA0-45B9-AC28-2818385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0B9AF-D702-4AE3-B985-CB454D52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125DF-900C-4B14-890E-DB32FB96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0FEF6-F403-4611-94F9-E15A51DF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A73FD-CB46-4076-8B5E-30FC2D4E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A12-1E69-4928-9D5A-8FF78AD3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4B090-5535-4416-83AA-C7F50A13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A7FCC-9080-4E17-BC3D-B193A86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4E946-71EB-4D3B-A341-8583CB73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E7158-FF33-46B6-9278-1DC2F648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2053E-A607-405A-ABA0-EBCD8B1C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476D-A308-404A-9BE7-A0BEAE62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1C7D-BF1C-4FBE-9BFA-C78E0815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C3D2-64CA-4BC4-A579-4B91DA0E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E2F5-2A72-4690-9FAD-3F490C0D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C059-83FE-4F47-9DE4-E489EECB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894-B430-4C72-A6A9-90D13978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B594-226A-4B85-A657-28392714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BFE5-DE99-4CD7-A46C-F61F3D2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3C9D-3359-43E7-835D-06923EE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ED1B-7380-4DBF-9397-D5C495A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F6CB-DBFB-413F-9157-CD673B36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2576-1592-4816-BF50-4122A94D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EC4C-8C89-45BC-9E45-026FFB1B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1F2C4-ED6E-496E-8953-48561D4F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6588E-A3C7-401A-AB40-79415F3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8FB80-66E2-424F-BCF2-AE3B3266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BA1-F0F4-4AC8-8957-82B591F3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349F88-208E-457C-9F6E-6CCF66D6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87674-F09A-412F-926D-97E1F132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3725C-859C-4106-8FAB-3B5BAFB7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28D00-10F3-4D08-AC55-16FCA30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B00C8-ECFB-4AC5-AA6F-5BEAC2A5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D11E5-67D7-45E4-BB4D-8A0EFF84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9CDD6-1737-40CD-BDF2-148C6BB2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A606A5-F17E-446F-8D82-0B54A725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93F0F-72D5-4B50-B097-E644428B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524-F407-4CF0-BB17-1D058AC1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DBD-D761-42F2-AE74-4F3DB981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E70-27F8-4EA2-AF9D-8522D06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335-FD89-4B6E-B46F-FC79E95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6F1-8B44-4357-A0E5-F97B2C7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E838-14C2-42C7-BEF2-8109A2689271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cea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cea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d8047"/>
          </a:solidFill>
          <a:ln w="38160">
            <a:solidFill>
              <a:srgbClr val="dd80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37F3-FBA7-443E-A105-51AA54CA38AA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E007-95A9-4715-A584-D5B40E80BBD1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cea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cea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6124-2B14-408E-8FDC-EB443137DC01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ncientgreece.com/s/Wars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axosaudiobooks.com/northamerica/308412.htm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socialstudiesforkids.com/subjects/persianwars.htm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link.history.com/services/link/bcpid1681730307/bclid1683701822/bctid1646107670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sitement.neh.gov/Persian01_flash_page.asp" TargetMode="External"/><Relationship Id="rId2" Type="http://schemas.openxmlformats.org/officeDocument/2006/relationships/hyperlink" Target="http://edsitement.neh.gov/PersiaGreeceWars01.asp#Hellespont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sitement.neh.gov/PersianBridge_flash_page.asp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usu.edu/markdamen/1320Hist&amp;Civ/slides/02herod/boatbridge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usu.edu/markdamen/1320Hist&amp;Civ/slides/02herod/trireme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ncientgreece.com/s/Wars/" TargetMode="External"/><Relationship Id="rId3" Type="http://schemas.openxmlformats.org/officeDocument/2006/relationships/hyperlink" Target="http://www.naxosaudiobooks.com/northamerica/308412.ht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bddc3"/>
                </a:solidFill>
                <a:latin typeface="Constantia"/>
              </a:rPr>
              <a:t>490 BC – 480 B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50 - 700 BC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eece expande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ross the Aegean Se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499 BC, t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onian Revolt bega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ch led to th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sian Wa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 to </a:t>
            </a:r>
            <a:r>
              <a:rPr b="0" lang="en-US" sz="2600" spc="-1" strike="noStrike" u="sng">
                <a:solidFill>
                  <a:srgbClr val="f7b615"/>
                </a:solidFill>
                <a:uFillTx/>
                <a:latin typeface="Constantia"/>
                <a:hlinkClick r:id="rId1"/>
              </a:rPr>
              <a:t>http://www.ancientgreece.com/s/Wars/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o read about the Ionian Revol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www.mnsu.edu/emuseum/prehistory/aegean/images/so_many_images/greekimmigration.jpg"/>
          <p:cNvPicPr/>
          <p:nvPr/>
        </p:nvPicPr>
        <p:blipFill>
          <a:blip r:embed="rId3"/>
          <a:stretch/>
        </p:blipFill>
        <p:spPr>
          <a:xfrm>
            <a:off x="3962520" y="1219320"/>
            <a:ext cx="484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irst story in European history is Herodotus’ description of the Persian Wars in “The Histories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isten to the audio sample of the Persian War by Herodotus at </a:t>
            </a:r>
            <a:r>
              <a:rPr b="0" lang="en-US" sz="2600" spc="-1" strike="noStrike" u="sng">
                <a:solidFill>
                  <a:srgbClr val="f7b615"/>
                </a:solidFill>
                <a:uFillTx/>
                <a:latin typeface="Constantia"/>
                <a:hlinkClick r:id="rId1"/>
              </a:rPr>
              <a:t>http://www.naxosaudiobooks.com/northamerica/308412.ht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edsitement.neh.gov/lesson_images/lesson735/Greek_Phalanx_Icn.jpg"/>
          <p:cNvPicPr/>
          <p:nvPr/>
        </p:nvPicPr>
        <p:blipFill>
          <a:blip r:embed="rId3"/>
          <a:stretch/>
        </p:blipFill>
        <p:spPr>
          <a:xfrm>
            <a:off x="457200" y="4191120"/>
            <a:ext cx="1962000" cy="1904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Greek soldier"/>
          <p:cNvPicPr/>
          <p:nvPr/>
        </p:nvPicPr>
        <p:blipFill>
          <a:blip r:embed="rId4"/>
          <a:stretch/>
        </p:blipFill>
        <p:spPr>
          <a:xfrm>
            <a:off x="3124080" y="4191120"/>
            <a:ext cx="2013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609480" y="1676520"/>
            <a:ext cx="7696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tudy the Persian Wars using “The Persian Wars:  Greece’s Finest Hours” at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Constantia"/>
                <a:hlinkClick r:id="rId2"/>
              </a:rPr>
              <a:t>http://www.socialstudiesforkids.com/subjects/persianwars.htm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http://www.socialstudiesforkids.com/graphics/marathonbattle.jpg"/>
          <p:cNvPicPr/>
          <p:nvPr/>
        </p:nvPicPr>
        <p:blipFill>
          <a:blip r:embed="rId3"/>
          <a:stretch/>
        </p:blipFill>
        <p:spPr>
          <a:xfrm>
            <a:off x="457200" y="3657600"/>
            <a:ext cx="4095720" cy="26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www.socialstudiesforkids.com/graphics/plataea.jpg"/>
          <p:cNvPicPr/>
          <p:nvPr/>
        </p:nvPicPr>
        <p:blipFill>
          <a:blip r:embed="rId4"/>
          <a:stretch/>
        </p:blipFill>
        <p:spPr>
          <a:xfrm>
            <a:off x="4724280" y="3124080"/>
            <a:ext cx="39895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914400" y="1752480"/>
            <a:ext cx="762012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partans were a major factor in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nstanti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Persian War.  Go to history.com to view video on the training of a young warrior, the weapons used by the ancient Spartans, the geography of the battlefield, and much mo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7b615"/>
                </a:solidFill>
                <a:uFillTx/>
                <a:latin typeface="Constantia"/>
                <a:hlinkClick r:id="rId2"/>
              </a:rPr>
              <a:t>http://link.history.com/services/link/bcpid1681730307/bclid1683701822/bctid1646107670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http://www.thechair.gr/wp-content/uploads/2006/09/spartans3.jpg"/>
          <p:cNvPicPr/>
          <p:nvPr/>
        </p:nvPicPr>
        <p:blipFill>
          <a:blip r:embed="rId3"/>
          <a:stretch/>
        </p:blipFill>
        <p:spPr>
          <a:xfrm>
            <a:off x="2819520" y="3429000"/>
            <a:ext cx="54576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sian ruler (485-465 B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 to the following websit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learn about Xerxes’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rch to Gree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7b615"/>
                </a:solidFill>
                <a:uFillTx/>
                <a:latin typeface="Constantia"/>
                <a:hlinkClick r:id="rId1"/>
              </a:rPr>
              <a:t>http://edsitement.neh.gov/Persian01_flash_page.as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, learn more about the War during Xerxes’ reign by going to the following website.  </a:t>
            </a:r>
            <a:r>
              <a:rPr b="0" lang="en-US" sz="2600" spc="-1" strike="noStrike" u="sng">
                <a:solidFill>
                  <a:srgbClr val="f7b615"/>
                </a:solidFill>
                <a:uFillTx/>
                <a:latin typeface="Constantia"/>
                <a:hlinkClick r:id="rId2"/>
              </a:rPr>
              <a:t>http://edsitement.neh.gov/PersiaGreeceWars01.asp#Hellespont</a:t>
            </a:r>
            <a:r>
              <a:rPr b="0" lang="en-US" sz="2600" spc="-1" strike="noStrike">
                <a:solidFill>
                  <a:srgbClr val="b0cac4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Title 2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Mural image of Xerxes"/>
          <p:cNvPicPr/>
          <p:nvPr/>
        </p:nvPicPr>
        <p:blipFill>
          <a:blip r:embed="rId4"/>
          <a:stretch/>
        </p:blipFill>
        <p:spPr>
          <a:xfrm>
            <a:off x="5562720" y="304920"/>
            <a:ext cx="2666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was an engineering marvel for its time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alled a pontoon bridg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structed by lining boats up side-by-sid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d placing wooden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lanks over top of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boats to form 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alkwa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ry to build the bridge at Hellespont at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Constantia"/>
                <a:hlinkClick r:id="rId1"/>
              </a:rPr>
              <a:t>http://edsitement.neh.gov/PersianBridge_flash_page.asp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Xerxes' boat bridge (click to see larger image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1295280"/>
            <a:ext cx="2190600" cy="4011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Trireme (click to see larger image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81280" y="2819520"/>
            <a:ext cx="30099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8437680" cy="7747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609480" y="990720"/>
            <a:ext cx="754380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ncient Greece, 2008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University Press Inc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Constantia"/>
                <a:hlinkClick r:id="rId2"/>
              </a:rPr>
              <a:t>http://www.ancientgreece.com/s/Wa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erodutus, “The Persian War” 2008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 Naxos Audio Books. </a:t>
            </a:r>
            <a:r>
              <a:rPr b="0" i="1" lang="en-US" sz="1800" spc="-1" strike="noStrike" u="sng">
                <a:solidFill>
                  <a:srgbClr val="f7b615"/>
                </a:solidFill>
                <a:uFillTx/>
                <a:latin typeface="Constantia"/>
                <a:hlinkClick r:id="rId3"/>
              </a:rPr>
              <a:t>http://www.naxosaudiobooks.com/northamerica/308412.htm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ast Stand of the 300 Spartan Boot Camp.  Military History, 2008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A&amp;E Television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http://link.history.com/services/link/bcpid1681730307/bclid1683701822/bctid164610767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erisan War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dsitement  </a:t>
            </a:r>
            <a:r>
              <a:rPr b="0" lang="en-US" sz="1800" spc="-1" strike="noStrike">
                <a:solidFill>
                  <a:srgbClr val="b0cac4"/>
                </a:solidFill>
                <a:latin typeface="Constantia"/>
              </a:rPr>
              <a:t>http://edsitement.neh.gov/Persian01_flash_page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ersian Wars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Social Studies for Kid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b0cac4"/>
                </a:solidFill>
                <a:latin typeface="Constantia"/>
              </a:rPr>
              <a:t>http://www.socialstudiesforkids.com/subjects/persianwars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Xerxes’ Bridge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dsitement.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ttp://edsitement.neh.gov/PersianBridge_flash_page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990720" y="1676520"/>
            <a:ext cx="7238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ocial Studies – 9</a:t>
            </a:r>
            <a:r>
              <a:rPr b="0" lang="en-US" sz="1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.O.9.1.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causes of conflict and propose resol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.O.9.5.6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and contrast the causes and effects of the rise and decline of ancient civilizations (e.g., the river civilizations, classic Greek and  Roma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.O.9.5.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 the location, movement, unique contributions and characteristics of Arab/Islamic socie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4:51:13Z</dcterms:created>
  <dc:creator>CCS</dc:creator>
  <dc:description/>
  <dc:language>en-US</dc:language>
  <cp:lastModifiedBy>ccsguest</cp:lastModifiedBy>
  <dcterms:modified xsi:type="dcterms:W3CDTF">2008-11-06T21:25:25Z</dcterms:modified>
  <cp:revision>15</cp:revision>
  <dc:subject/>
  <dc:title>Persian Wars</dc:title>
</cp:coreProperties>
</file>